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gif" ContentType="image/gif"/>
  <Override PartName="/ppt/media/image4.jpeg" ContentType="image/jpeg"/>
  <Override PartName="/ppt/media/image8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9.wmf" ContentType="image/x-wmf"/>
  <Override PartName="/ppt/media/image7.gif" ContentType="image/gif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7FA1-A766-4EDF-8AF6-548A63D8424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E5964-8F52-43A3-90F4-8FBC0F8B65D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32F4-D8BF-4BD1-861D-96346F9DF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611F-C35B-4AFD-8474-AB13EE40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C1A4-8F2C-4589-B703-DAA5E9A15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F942-4CD9-4D74-BDFB-B06CE921A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BBDD-6A72-4478-942E-E5A8B47D4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AD39-E9C7-440A-AE64-78654A1BD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5002-8958-447C-9D27-FB97092EC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B021-1C99-464A-B16C-E4B742C15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E15C-CEDC-48B5-9ABC-6C6BF8BB9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BEE1-0A15-492B-89F1-A21C3C0E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451C-6D5B-469A-A2E8-D40BDC97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7FE1-6F27-4951-A613-3C3D134F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CFD88-C3EE-4D72-8CCA-BA67858A36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3" descr=""/>
          <p:cNvPicPr/>
          <p:nvPr/>
        </p:nvPicPr>
        <p:blipFill>
          <a:blip r:embed="rId1"/>
          <a:stretch/>
        </p:blipFill>
        <p:spPr>
          <a:xfrm>
            <a:off x="1011240" y="23760"/>
            <a:ext cx="6651720" cy="1665360"/>
          </a:xfrm>
          <a:prstGeom prst="rect">
            <a:avLst/>
          </a:prstGeom>
          <a:ln w="0">
            <a:noFill/>
          </a:ln>
        </p:spPr>
      </p:pic>
      <p:sp>
        <p:nvSpPr>
          <p:cNvPr id="49" name="Волна 15"/>
          <p:cNvSpPr/>
          <p:nvPr/>
        </p:nvSpPr>
        <p:spPr>
          <a:xfrm>
            <a:off x="3714840" y="4429080"/>
            <a:ext cx="1785960" cy="928800"/>
          </a:xfrm>
          <a:custGeom>
            <a:avLst/>
            <a:gdLst>
              <a:gd name="textAreaLeft" fmla="*/ 0 w 1785960"/>
              <a:gd name="textAreaRight" fmla="*/ 1786320 w 1785960"/>
              <a:gd name="textAreaTop" fmla="*/ 232200 h 928800"/>
              <a:gd name="textAreaBottom" fmla="*/ 696600 h 92880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2f2f2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Calibri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Волна 16"/>
          <p:cNvSpPr/>
          <p:nvPr/>
        </p:nvSpPr>
        <p:spPr>
          <a:xfrm>
            <a:off x="1143000" y="1571760"/>
            <a:ext cx="2428920" cy="1000080"/>
          </a:xfrm>
          <a:custGeom>
            <a:avLst/>
            <a:gdLst>
              <a:gd name="textAreaLeft" fmla="*/ 0 w 2428920"/>
              <a:gd name="textAreaRight" fmla="*/ 2429280 w 2428920"/>
              <a:gd name="textAreaTop" fmla="*/ 249840 h 1000080"/>
              <a:gd name="textAreaBottom" fmla="*/ 750240 h 10000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 front 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Волна 13"/>
          <p:cNvSpPr/>
          <p:nvPr/>
        </p:nvSpPr>
        <p:spPr>
          <a:xfrm>
            <a:off x="1285920" y="2714760"/>
            <a:ext cx="2500200" cy="1000080"/>
          </a:xfrm>
          <a:custGeom>
            <a:avLst/>
            <a:gdLst>
              <a:gd name="textAreaLeft" fmla="*/ 0 w 2500200"/>
              <a:gd name="textAreaRight" fmla="*/ 2500560 w 2500200"/>
              <a:gd name="textAreaTop" fmla="*/ 249840 h 1000080"/>
              <a:gd name="textAreaBottom" fmla="*/ 750240 h 10000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Волна 14"/>
          <p:cNvSpPr/>
          <p:nvPr/>
        </p:nvSpPr>
        <p:spPr>
          <a:xfrm>
            <a:off x="5214960" y="2857680"/>
            <a:ext cx="3000240" cy="857160"/>
          </a:xfrm>
          <a:custGeom>
            <a:avLst/>
            <a:gdLst>
              <a:gd name="textAreaLeft" fmla="*/ 0 w 3000240"/>
              <a:gd name="textAreaRight" fmla="*/ 3000600 w 300024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etw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Волна 18"/>
          <p:cNvSpPr/>
          <p:nvPr/>
        </p:nvSpPr>
        <p:spPr>
          <a:xfrm>
            <a:off x="714240" y="4286160"/>
            <a:ext cx="1928880" cy="1143000"/>
          </a:xfrm>
          <a:custGeom>
            <a:avLst/>
            <a:gdLst>
              <a:gd name="textAreaLeft" fmla="*/ 0 w 1928880"/>
              <a:gd name="textAreaRight" fmla="*/ 1929240 w 192888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Calibri"/>
              </a:rPr>
              <a:t>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Волна 19"/>
          <p:cNvSpPr/>
          <p:nvPr/>
        </p:nvSpPr>
        <p:spPr>
          <a:xfrm>
            <a:off x="6286680" y="4071960"/>
            <a:ext cx="2143080" cy="1214280"/>
          </a:xfrm>
          <a:custGeom>
            <a:avLst/>
            <a:gdLst>
              <a:gd name="textAreaLeft" fmla="*/ 0 w 2143080"/>
              <a:gd name="textAreaRight" fmla="*/ 2143440 w 2143080"/>
              <a:gd name="textAreaTop" fmla="*/ 303480 h 1214280"/>
              <a:gd name="textAreaBottom" fmla="*/ 91080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eh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Волна 20"/>
          <p:cNvSpPr/>
          <p:nvPr/>
        </p:nvSpPr>
        <p:spPr>
          <a:xfrm>
            <a:off x="571680" y="5572080"/>
            <a:ext cx="2786040" cy="1071720"/>
          </a:xfrm>
          <a:custGeom>
            <a:avLst/>
            <a:gdLst>
              <a:gd name="textAreaLeft" fmla="*/ 0 w 2786040"/>
              <a:gd name="textAreaRight" fmla="*/ 2786400 w 2786040"/>
              <a:gd name="textAreaTop" fmla="*/ 267840 h 1071720"/>
              <a:gd name="textAreaBottom" fmla="*/ 80388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Волна 21"/>
          <p:cNvSpPr/>
          <p:nvPr/>
        </p:nvSpPr>
        <p:spPr>
          <a:xfrm>
            <a:off x="5857920" y="5500800"/>
            <a:ext cx="2428920" cy="1214280"/>
          </a:xfrm>
          <a:custGeom>
            <a:avLst/>
            <a:gdLst>
              <a:gd name="textAreaLeft" fmla="*/ 0 w 2428920"/>
              <a:gd name="textAreaRight" fmla="*/ 2429280 w 2428920"/>
              <a:gd name="textAreaTop" fmla="*/ 303480 h 1214280"/>
              <a:gd name="textAreaBottom" fmla="*/ 91080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3"/>
          <p:cNvSpPr/>
          <p:nvPr/>
        </p:nvSpPr>
        <p:spPr>
          <a:xfrm>
            <a:off x="500040" y="5786280"/>
            <a:ext cx="285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n the right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4"/>
          <p:cNvSpPr/>
          <p:nvPr/>
        </p:nvSpPr>
        <p:spPr>
          <a:xfrm>
            <a:off x="5786280" y="571500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n the left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Волна 26"/>
          <p:cNvSpPr/>
          <p:nvPr/>
        </p:nvSpPr>
        <p:spPr>
          <a:xfrm>
            <a:off x="5143680" y="1500120"/>
            <a:ext cx="3000240" cy="1214640"/>
          </a:xfrm>
          <a:custGeom>
            <a:avLst/>
            <a:gdLst>
              <a:gd name="textAreaLeft" fmla="*/ 0 w 3000240"/>
              <a:gd name="textAreaRight" fmla="*/ 3000600 w 3000240"/>
              <a:gd name="textAreaTop" fmla="*/ 303480 h 1214640"/>
              <a:gd name="textAreaBottom" fmla="*/ 9111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7"/>
          <p:cNvSpPr/>
          <p:nvPr/>
        </p:nvSpPr>
        <p:spPr>
          <a:xfrm>
            <a:off x="5143680" y="1714680"/>
            <a:ext cx="43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the middle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Волна 28"/>
          <p:cNvSpPr/>
          <p:nvPr/>
        </p:nvSpPr>
        <p:spPr>
          <a:xfrm>
            <a:off x="4000680" y="5786280"/>
            <a:ext cx="1428480" cy="928800"/>
          </a:xfrm>
          <a:custGeom>
            <a:avLst/>
            <a:gdLst>
              <a:gd name="textAreaLeft" fmla="*/ 0 w 1428480"/>
              <a:gd name="textAreaRight" fmla="*/ 1428840 w 1428480"/>
              <a:gd name="textAreaTop" fmla="*/ 232200 h 928800"/>
              <a:gd name="textAreaBottom" fmla="*/ 696600 h 92880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9"/>
          <p:cNvSpPr/>
          <p:nvPr/>
        </p:nvSpPr>
        <p:spPr>
          <a:xfrm>
            <a:off x="4214880" y="57862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4"/>
          <p:cNvSpPr/>
          <p:nvPr/>
        </p:nvSpPr>
        <p:spPr>
          <a:xfrm>
            <a:off x="4075560" y="2857680"/>
            <a:ext cx="657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3"/>
          <p:cNvSpPr/>
          <p:nvPr/>
        </p:nvSpPr>
        <p:spPr>
          <a:xfrm>
            <a:off x="446400" y="5786280"/>
            <a:ext cx="7663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he cat is.…....…..the </a:t>
            </a:r>
            <a:r>
              <a:rPr b="1" lang="en-US" sz="4800" spc="-1" strike="noStrike">
                <a:solidFill>
                  <a:srgbClr val="0d0d0d"/>
                </a:solidFill>
                <a:latin typeface="Calibri"/>
              </a:rPr>
              <a:t>basket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C:\Documents and Settings\Admin\Рабочий стол\cat190.gif"/>
          <p:cNvPicPr/>
          <p:nvPr/>
        </p:nvPicPr>
        <p:blipFill>
          <a:blip r:embed="rId1"/>
          <a:stretch/>
        </p:blipFill>
        <p:spPr>
          <a:xfrm>
            <a:off x="2214720" y="771480"/>
            <a:ext cx="485748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0.06476 L -0.01302 0.40056 E">
                                      <p:cBhvr>
                                        <p:cTn id="54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C:\Documents and Settings\Admin\Local Settings\Temporary Internet Files\Content.IE5\GEDWP2E8\MCj04323230000[1].wm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6"/>
          <p:cNvSpPr/>
          <p:nvPr/>
        </p:nvSpPr>
        <p:spPr>
          <a:xfrm>
            <a:off x="0" y="5929200"/>
            <a:ext cx="9074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cat is.…....……………………the stree</a:t>
            </a:r>
            <a:r>
              <a:rPr b="1" lang="en-US" sz="4400" spc="-1" strike="noStrike">
                <a:solidFill>
                  <a:srgbClr val="0d0d0d"/>
                </a:solidFill>
                <a:latin typeface="Calibri"/>
              </a:rPr>
              <a:t>t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660400" y="4286160"/>
            <a:ext cx="3862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in the middle 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C:\Documents and Settings\Admin\Рабочий стол\cat88.gif"/>
          <p:cNvPicPr/>
          <p:nvPr/>
        </p:nvPicPr>
        <p:blipFill>
          <a:blip r:embed="rId2"/>
          <a:stretch/>
        </p:blipFill>
        <p:spPr>
          <a:xfrm>
            <a:off x="2071800" y="2928960"/>
            <a:ext cx="485748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0.02868 L -0.00208 0.23867 E">
                                      <p:cBhvr>
                                        <p:cTn id="60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C:\Documents and Settings\Admin\Рабочий стол\animated_thanks_44_thumb.gif"/>
          <p:cNvPicPr/>
          <p:nvPr/>
        </p:nvPicPr>
        <p:blipFill>
          <a:blip r:embed="rId1"/>
          <a:stretch/>
        </p:blipFill>
        <p:spPr>
          <a:xfrm>
            <a:off x="1785960" y="500040"/>
            <a:ext cx="564372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9"/>
          <p:cNvSpPr/>
          <p:nvPr/>
        </p:nvSpPr>
        <p:spPr>
          <a:xfrm>
            <a:off x="1643040" y="5643720"/>
            <a:ext cx="607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he cat is…….the b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3786120" y="4071960"/>
            <a:ext cx="107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alibri"/>
              </a:rPr>
              <a:t>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C:\Program Files\Microsoft Office\MEDIA\CAGCAT10\j0299763.wmf"/>
          <p:cNvPicPr/>
          <p:nvPr/>
        </p:nvPicPr>
        <p:blipFill>
          <a:blip r:embed="rId1"/>
          <a:stretch/>
        </p:blipFill>
        <p:spPr>
          <a:xfrm>
            <a:off x="2000160" y="2571840"/>
            <a:ext cx="4214880" cy="3214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C:\Documents and Settings\Admin\Рабочий стол\cat198.gif"/>
          <p:cNvPicPr/>
          <p:nvPr/>
        </p:nvPicPr>
        <p:blipFill>
          <a:blip r:embed="rId2"/>
          <a:stretch/>
        </p:blipFill>
        <p:spPr>
          <a:xfrm>
            <a:off x="2857680" y="0"/>
            <a:ext cx="364320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62535E-007 L 0.03524 0.2167 E">
                                      <p:cBhvr>
                                        <p:cTn id="6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5"/>
          <p:cNvSpPr/>
          <p:nvPr/>
        </p:nvSpPr>
        <p:spPr>
          <a:xfrm>
            <a:off x="0" y="5857920"/>
            <a:ext cx="950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he cat is………....………….of the b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2571840" y="3071880"/>
            <a:ext cx="550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on the left o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C:\Program Files\Microsoft Office\MEDIA\CAGCAT10\j0299763.wmf"/>
          <p:cNvPicPr/>
          <p:nvPr/>
        </p:nvPicPr>
        <p:blipFill>
          <a:blip r:embed="rId1"/>
          <a:stretch/>
        </p:blipFill>
        <p:spPr>
          <a:xfrm>
            <a:off x="4214880" y="2000160"/>
            <a:ext cx="3714840" cy="3057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C:\Documents and Settings\Admin\Рабочий стол\cat198.gif"/>
          <p:cNvPicPr/>
          <p:nvPr/>
        </p:nvPicPr>
        <p:blipFill>
          <a:blip r:embed="rId2"/>
          <a:stretch/>
        </p:blipFill>
        <p:spPr>
          <a:xfrm>
            <a:off x="1928880" y="1071720"/>
            <a:ext cx="340992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49584E-006 L 0.01562 0.40912 E">
                                      <p:cBhvr>
                                        <p:cTn id="12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3"/>
          <p:cNvSpPr/>
          <p:nvPr/>
        </p:nvSpPr>
        <p:spPr>
          <a:xfrm>
            <a:off x="2714760" y="3000240"/>
            <a:ext cx="442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on the right o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5"/>
          <p:cNvSpPr/>
          <p:nvPr/>
        </p:nvSpPr>
        <p:spPr>
          <a:xfrm>
            <a:off x="131040" y="5857920"/>
            <a:ext cx="9137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he cat is………....…………..of the b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0" descr="C:\Documents and Settings\Admin\Рабочий стол\cat198.gif"/>
          <p:cNvPicPr/>
          <p:nvPr/>
        </p:nvPicPr>
        <p:blipFill>
          <a:blip r:embed="rId1"/>
          <a:stretch/>
        </p:blipFill>
        <p:spPr>
          <a:xfrm>
            <a:off x="4929120" y="214200"/>
            <a:ext cx="3643560" cy="4789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Program Files\Microsoft Office\MEDIA\CAGCAT10\j0299763.wmf"/>
          <p:cNvPicPr/>
          <p:nvPr/>
        </p:nvPicPr>
        <p:blipFill>
          <a:blip r:embed="rId2"/>
          <a:stretch/>
        </p:blipFill>
        <p:spPr>
          <a:xfrm>
            <a:off x="1071720" y="1571760"/>
            <a:ext cx="4255920" cy="35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69 0.05505 L -0.00469 0.40125 E">
                                      <p:cBhvr>
                                        <p:cTn id="18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4"/>
          <p:cNvSpPr/>
          <p:nvPr/>
        </p:nvSpPr>
        <p:spPr>
          <a:xfrm>
            <a:off x="3286080" y="3214800"/>
            <a:ext cx="257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und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C:\Documents and Settings\Admin\Local Settings\Temporary Internet Files\Content.IE5\3LK7GO01\MPj04244120000[1].jpg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600084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10"/>
          <p:cNvSpPr/>
          <p:nvPr/>
        </p:nvSpPr>
        <p:spPr>
          <a:xfrm>
            <a:off x="0" y="5786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he cat is…....………….. the tabl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3"/>
          <p:cNvSpPr/>
          <p:nvPr/>
        </p:nvSpPr>
        <p:spPr>
          <a:xfrm>
            <a:off x="3643200" y="4143240"/>
            <a:ext cx="271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und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0" descr="C:\Documents and Settings\Admin\Рабочий стол\cat198.gif"/>
          <p:cNvPicPr/>
          <p:nvPr/>
        </p:nvPicPr>
        <p:blipFill>
          <a:blip r:embed="rId2"/>
          <a:stretch/>
        </p:blipFill>
        <p:spPr>
          <a:xfrm>
            <a:off x="3286080" y="3000240"/>
            <a:ext cx="292896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3.98705E-006 L -0.02968 0.22409 E">
                                      <p:cBhvr>
                                        <p:cTn id="24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2" descr="C:\Documents and Settings\Admin\Рабочий стол\cat50.gif"/>
          <p:cNvPicPr/>
          <p:nvPr/>
        </p:nvPicPr>
        <p:blipFill>
          <a:blip r:embed="rId1"/>
          <a:stretch/>
        </p:blipFill>
        <p:spPr>
          <a:xfrm>
            <a:off x="3571920" y="0"/>
            <a:ext cx="2500200" cy="3360600"/>
          </a:xfrm>
          <a:prstGeom prst="rect">
            <a:avLst/>
          </a:prstGeom>
          <a:ln w="0">
            <a:noFill/>
          </a:ln>
        </p:spPr>
      </p:pic>
      <p:sp>
        <p:nvSpPr>
          <p:cNvPr id="81" name="TextBox 3"/>
          <p:cNvSpPr/>
          <p:nvPr/>
        </p:nvSpPr>
        <p:spPr>
          <a:xfrm>
            <a:off x="3429000" y="3571920"/>
            <a:ext cx="292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abo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C:\Program Files\Microsoft Office\MEDIA\CAGCAT10\j0299763.wmf"/>
          <p:cNvPicPr/>
          <p:nvPr/>
        </p:nvPicPr>
        <p:blipFill>
          <a:blip r:embed="rId2"/>
          <a:stretch/>
        </p:blipFill>
        <p:spPr>
          <a:xfrm>
            <a:off x="2571840" y="3357720"/>
            <a:ext cx="3357360" cy="276192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8"/>
          <p:cNvSpPr/>
          <p:nvPr/>
        </p:nvSpPr>
        <p:spPr>
          <a:xfrm>
            <a:off x="673560" y="6027840"/>
            <a:ext cx="698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he cat is………....… the b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78 0.00324 L -0.00833 0.34204 E">
                                      <p:cBhvr>
                                        <p:cTn id="30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0" descr="C:\Documents and Settings\Admin\Рабочий стол\cat198.gif"/>
          <p:cNvPicPr/>
          <p:nvPr/>
        </p:nvPicPr>
        <p:blipFill>
          <a:blip r:embed="rId1"/>
          <a:stretch/>
        </p:blipFill>
        <p:spPr>
          <a:xfrm>
            <a:off x="2857680" y="0"/>
            <a:ext cx="3922560" cy="5157720"/>
          </a:xfrm>
          <a:prstGeom prst="rect">
            <a:avLst/>
          </a:prstGeom>
          <a:ln w="0">
            <a:noFill/>
          </a:ln>
        </p:spPr>
      </p:pic>
      <p:sp>
        <p:nvSpPr>
          <p:cNvPr id="85" name="TextBox 3"/>
          <p:cNvSpPr/>
          <p:nvPr/>
        </p:nvSpPr>
        <p:spPr>
          <a:xfrm>
            <a:off x="3643200" y="4214880"/>
            <a:ext cx="34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behi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4"/>
          <p:cNvSpPr/>
          <p:nvPr/>
        </p:nvSpPr>
        <p:spPr>
          <a:xfrm>
            <a:off x="1173600" y="5857920"/>
            <a:ext cx="698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he cat is………....… the b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C:\Program Files\Microsoft Office\MEDIA\CAGCAT10\j0299763.wmf"/>
          <p:cNvPicPr/>
          <p:nvPr/>
        </p:nvPicPr>
        <p:blipFill>
          <a:blip r:embed="rId2"/>
          <a:stretch/>
        </p:blipFill>
        <p:spPr>
          <a:xfrm>
            <a:off x="2428920" y="2143080"/>
            <a:ext cx="457200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11 0.05643 L 0.01892 0.23474 E">
                                      <p:cBhvr>
                                        <p:cTn id="36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4"/>
          <p:cNvSpPr/>
          <p:nvPr/>
        </p:nvSpPr>
        <p:spPr>
          <a:xfrm>
            <a:off x="3929040" y="3143160"/>
            <a:ext cx="385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in front o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5"/>
          <p:cNvSpPr/>
          <p:nvPr/>
        </p:nvSpPr>
        <p:spPr>
          <a:xfrm>
            <a:off x="857160" y="6027840"/>
            <a:ext cx="869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he cat is..………....….…the b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C:\Program Files\Microsoft Office\MEDIA\CAGCAT10\j0299763.wmf"/>
          <p:cNvPicPr/>
          <p:nvPr/>
        </p:nvPicPr>
        <p:blipFill>
          <a:blip r:embed="rId1"/>
          <a:stretch/>
        </p:blipFill>
        <p:spPr>
          <a:xfrm>
            <a:off x="2143080" y="1357200"/>
            <a:ext cx="5313240" cy="4372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C:\Documents and Settings\Admin\Рабочий стол\cat198.gif"/>
          <p:cNvPicPr/>
          <p:nvPr/>
        </p:nvPicPr>
        <p:blipFill>
          <a:blip r:embed="rId2"/>
          <a:stretch/>
        </p:blipFill>
        <p:spPr>
          <a:xfrm>
            <a:off x="3786120" y="1000080"/>
            <a:ext cx="367200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458 0.02313 L -0.04618 0.40079 E">
                                      <p:cBhvr>
                                        <p:cTn id="42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C:\Documents and Settings\Admin\Рабочий стол\dog73.gif"/>
          <p:cNvPicPr/>
          <p:nvPr/>
        </p:nvPicPr>
        <p:blipFill>
          <a:blip r:embed="rId1"/>
          <a:stretch/>
        </p:blipFill>
        <p:spPr>
          <a:xfrm>
            <a:off x="4857840" y="2000160"/>
            <a:ext cx="3733560" cy="360216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7"/>
          <p:cNvSpPr/>
          <p:nvPr/>
        </p:nvSpPr>
        <p:spPr>
          <a:xfrm>
            <a:off x="2794320" y="3643200"/>
            <a:ext cx="255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betwee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5"/>
          <p:cNvSpPr/>
          <p:nvPr/>
        </p:nvSpPr>
        <p:spPr>
          <a:xfrm>
            <a:off x="527400" y="5857920"/>
            <a:ext cx="792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he cat is..………....…..the dog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C:\Documents and Settings\Admin\Рабочий стол\cat198.gif"/>
          <p:cNvPicPr/>
          <p:nvPr/>
        </p:nvPicPr>
        <p:blipFill>
          <a:blip r:embed="rId2"/>
          <a:stretch/>
        </p:blipFill>
        <p:spPr>
          <a:xfrm>
            <a:off x="3000240" y="1357200"/>
            <a:ext cx="3235320" cy="4254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C:\Documents and Settings\Admin\Рабочий стол\dog78.gif"/>
          <p:cNvPicPr/>
          <p:nvPr/>
        </p:nvPicPr>
        <p:blipFill>
          <a:blip r:embed="rId3"/>
          <a:stretch/>
        </p:blipFill>
        <p:spPr>
          <a:xfrm>
            <a:off x="-142920" y="1143000"/>
            <a:ext cx="406548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486 0.06614 L 0.03976 0.31799 E">
                                      <p:cBhvr>
                                        <p:cTn id="48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4-18T07:56:05Z</dcterms:modified>
  <cp:revision>36</cp:revision>
  <dc:subject/>
  <dc:title>Слайд 1</dc:title>
</cp:coreProperties>
</file>